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323-CB48-470A-835D-E8BB0C2A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BE8-ABFE-420F-BA29-29282D0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CF2-50B9-42A8-8DCC-B344C78D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856-02D7-406D-8B0B-72600726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136-18A2-4EAA-9C1B-C77E0DD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490-F745-4E6C-92C5-C6A156F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CA1-C942-4891-87A3-4C0E1562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584-7F93-4A43-96C7-D6E3167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C6C-25DB-4503-985D-7A7374F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989-37D5-490F-A15B-7A6EFBD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466-78B2-4519-8602-C829074F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0D5-FC63-41DB-97C0-666E0294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C821-5F11-4069-B53B-1F781E5E9A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9000"/>
            <a:ext cx="4449600" cy="3373560"/>
            <a:chOff x="0" y="3429000"/>
            <a:chExt cx="4449600" cy="3373560"/>
          </a:xfrm>
        </p:grpSpPr>
        <p:sp>
          <p:nvSpPr>
            <p:cNvPr id="42" name=""/>
            <p:cNvSpPr/>
            <p:nvPr/>
          </p:nvSpPr>
          <p:spPr>
            <a:xfrm>
              <a:off x="0" y="3429000"/>
              <a:ext cx="4449600" cy="33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6280" y="3683160"/>
              <a:ext cx="3348000" cy="2536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41320" y="4951440"/>
              <a:ext cx="77760" cy="84780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5740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5728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752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6856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7024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8128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116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8140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2440" y="4888080"/>
              <a:ext cx="7776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4120" y="4888080"/>
              <a:ext cx="88920" cy="63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83040" y="4100400"/>
              <a:ext cx="77760" cy="85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2800" y="62197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2800" y="579924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2800" y="53690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2800" y="49514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2800" y="4532400"/>
              <a:ext cx="33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2800" y="41004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0" y="36831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280" y="4951440"/>
              <a:ext cx="3348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4628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461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35720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65744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5732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2701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7004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88144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18132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8156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794040" y="495144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94280" y="495144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760" y="61308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760" y="571176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360" y="5280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8600" y="486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00" y="44449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1040" y="4011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040" y="35942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10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6820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6808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912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793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918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9208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919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0336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3240" y="506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1440" y="506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130320" y="4945680"/>
              <a:ext cx="48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2840" y="6424560"/>
              <a:ext cx="77760" cy="88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path path="rect">
                <a:fillToRect l="50000" t="50000" r="50000" b="50000"/>
              </a:path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94800" y="6373800"/>
              <a:ext cx="48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3760" y="6424560"/>
              <a:ext cx="79560" cy="889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6080" y="637380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up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73360" y="6424560"/>
              <a:ext cx="77760" cy="889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path path="rect">
                <a:fillToRect l="50000" t="50000" r="50000" b="50000"/>
              </a:path>
            </a:gra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4240" y="637380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ay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429000"/>
              <a:ext cx="4449600" cy="3373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58680" y="3487680"/>
            <a:ext cx="4443480" cy="3246480"/>
            <a:chOff x="58680" y="3487680"/>
            <a:chExt cx="4443480" cy="3246480"/>
          </a:xfrm>
        </p:grpSpPr>
        <p:sp>
          <p:nvSpPr>
            <p:cNvPr id="103" name=""/>
            <p:cNvSpPr/>
            <p:nvPr/>
          </p:nvSpPr>
          <p:spPr>
            <a:xfrm>
              <a:off x="58680" y="3487680"/>
              <a:ext cx="444348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2280" y="3722760"/>
              <a:ext cx="3598560" cy="230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7360" y="60310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7360" y="5702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7360" y="5375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7360" y="5046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7360" y="4707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7360" y="4378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360" y="4049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" y="37227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92280" y="60307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59372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49696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38760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290840" y="60307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866880" y="5234040"/>
              <a:ext cx="18864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5520" y="5234040"/>
              <a:ext cx="180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055520" y="5163840"/>
              <a:ext cx="1749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230480" y="5022360"/>
              <a:ext cx="17604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06520" y="5022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06520" y="4952880"/>
              <a:ext cx="18720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93720" y="4811760"/>
              <a:ext cx="17640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0120" y="481176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1770120" y="4765320"/>
              <a:ext cx="1760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946160" y="4635360"/>
              <a:ext cx="18756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63536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133720" y="4589640"/>
              <a:ext cx="17604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309760" y="4460760"/>
              <a:ext cx="18720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96960" y="4460760"/>
              <a:ext cx="180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496960" y="4425480"/>
              <a:ext cx="1764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673360" y="4284720"/>
              <a:ext cx="17460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47960" y="428472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847960" y="4249440"/>
              <a:ext cx="1890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36960" y="4120920"/>
              <a:ext cx="1746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1560" y="412128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11560" y="4073040"/>
              <a:ext cx="17604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87600" y="3944520"/>
              <a:ext cx="1875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5160" y="3944880"/>
              <a:ext cx="144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6880" y="5761080"/>
              <a:ext cx="188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55520" y="576108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5520" y="5761080"/>
              <a:ext cx="17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0480" y="576108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6520" y="5761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06520" y="5761080"/>
              <a:ext cx="18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3720" y="5761080"/>
              <a:ext cx="176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0120" y="57610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70120" y="576108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946160" y="5433480"/>
              <a:ext cx="1800" cy="3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6160" y="5433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5433840"/>
              <a:ext cx="176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09760" y="5433840"/>
              <a:ext cx="187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96960" y="54338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96960" y="5433840"/>
              <a:ext cx="176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73360" y="5233680"/>
              <a:ext cx="144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73360" y="5234040"/>
              <a:ext cx="17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47960" y="5234040"/>
              <a:ext cx="189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6960" y="5234040"/>
              <a:ext cx="17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11560" y="5234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11560" y="5234040"/>
              <a:ext cx="176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387600" y="5105160"/>
              <a:ext cx="180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87600" y="5105520"/>
              <a:ext cx="187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6680" y="5948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6680" y="5621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6840" y="5292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6840" y="496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840" y="46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6840" y="4295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840" y="3968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840" y="363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000" y="6137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8440" y="6137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2676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1740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19200" y="6137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37400" y="638316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Qua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2040" y="481788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ital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680" y="3487680"/>
              <a:ext cx="4443480" cy="3246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6040" y="3794040"/>
              <a:ext cx="64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60840" y="4929120"/>
              <a:ext cx="64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7240" y="3486240"/>
            <a:ext cx="4446360" cy="3295440"/>
            <a:chOff x="57240" y="3486240"/>
            <a:chExt cx="4446360" cy="3295440"/>
          </a:xfrm>
        </p:grpSpPr>
        <p:sp>
          <p:nvSpPr>
            <p:cNvPr id="183" name=""/>
            <p:cNvSpPr/>
            <p:nvPr/>
          </p:nvSpPr>
          <p:spPr>
            <a:xfrm>
              <a:off x="57240" y="3486240"/>
              <a:ext cx="4446360" cy="3295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5880" y="3714840"/>
              <a:ext cx="3781440" cy="2452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76240" y="3714840"/>
              <a:ext cx="1800" cy="24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41320" y="5756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1320" y="49417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1320" y="45291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41320" y="4127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1320" y="3714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5880" y="5357880"/>
              <a:ext cx="37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15880" y="535428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93996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352520" y="53542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776240" y="616860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20032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612880" y="61639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03696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460680" y="616392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873600" y="61639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297320" y="535428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7796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35040" y="53197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832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5760" y="40942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5040" y="552600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2040" y="44942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7168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38680" y="4094280"/>
              <a:ext cx="6804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5040" y="57214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08320" y="428796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7600" y="53197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71680" y="470052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939960" y="4127040"/>
              <a:ext cx="293364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8800" y="4876920"/>
              <a:ext cx="104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 = 0.504x + 0.94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69600" y="5675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1568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5680" y="444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15680" y="4048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8640" y="6235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4920" y="6235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4096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504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7760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0168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5400" y="623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340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7120" y="6235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68760" y="6477120"/>
              <a:ext cx="103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eturn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194760" y="487656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hare Return,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7720" y="6248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371600" y="61624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0480" y="3498840"/>
            <a:ext cx="4438440" cy="3359160"/>
            <a:chOff x="60480" y="3498840"/>
            <a:chExt cx="4438440" cy="3359160"/>
          </a:xfrm>
        </p:grpSpPr>
        <p:sp>
          <p:nvSpPr>
            <p:cNvPr id="234" name=""/>
            <p:cNvSpPr/>
            <p:nvPr/>
          </p:nvSpPr>
          <p:spPr>
            <a:xfrm>
              <a:off x="60480" y="3498840"/>
              <a:ext cx="4438440" cy="335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9120" y="3741840"/>
              <a:ext cx="3395520" cy="238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2400" y="61308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2400" y="56577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51721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2400" y="46990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400" y="42148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400" y="3741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891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46700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1463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825640" y="61304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0532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184640" y="61304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9120" y="5985000"/>
              <a:ext cx="169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58680" y="5985000"/>
              <a:ext cx="16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7160" y="5972040"/>
              <a:ext cx="169920" cy="12960"/>
            </a:xfrm>
            <a:custGeom>
              <a:avLst/>
              <a:gdLst/>
              <a:ahLst/>
              <a:rect l="l" t="t" r="r" b="b"/>
              <a:pathLst>
                <a:path w="107" h="8">
                  <a:moveTo>
                    <a:pt x="0" y="8"/>
                  </a:moveTo>
                  <a:lnTo>
                    <a:pt x="54" y="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97080" y="5972040"/>
              <a:ext cx="16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7000" y="5972040"/>
              <a:ext cx="169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6560" y="5961240"/>
              <a:ext cx="169920" cy="10800"/>
            </a:xfrm>
            <a:custGeom>
              <a:avLst/>
              <a:gdLst/>
              <a:ahLst/>
              <a:rect l="l" t="t" r="r" b="b"/>
              <a:pathLst>
                <a:path w="107" h="7">
                  <a:moveTo>
                    <a:pt x="0" y="7"/>
                  </a:moveTo>
                  <a:lnTo>
                    <a:pt x="54" y="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6480" y="5961240"/>
              <a:ext cx="16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76400" y="5961240"/>
              <a:ext cx="16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146320" y="5948280"/>
              <a:ext cx="1699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316240" y="593532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486160" y="5924160"/>
              <a:ext cx="169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655720" y="591156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825640" y="5898960"/>
              <a:ext cx="169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995560" y="5874840"/>
              <a:ext cx="16992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165480" y="5838480"/>
              <a:ext cx="1699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335400" y="5791320"/>
              <a:ext cx="1699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5320" y="5718240"/>
              <a:ext cx="169920" cy="73080"/>
            </a:xfrm>
            <a:custGeom>
              <a:avLst/>
              <a:gdLst/>
              <a:ahLst/>
              <a:rect l="l" t="t" r="r" b="b"/>
              <a:pathLst>
                <a:path w="107" h="46">
                  <a:moveTo>
                    <a:pt x="0" y="46"/>
                  </a:moveTo>
                  <a:lnTo>
                    <a:pt x="53" y="30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75240" y="5560920"/>
              <a:ext cx="169560" cy="15732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0" y="99"/>
                  </a:moveTo>
                  <a:lnTo>
                    <a:pt x="23" y="84"/>
                  </a:lnTo>
                  <a:lnTo>
                    <a:pt x="53" y="68"/>
                  </a:lnTo>
                  <a:lnTo>
                    <a:pt x="84" y="38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44800" y="5075280"/>
              <a:ext cx="169920" cy="485640"/>
            </a:xfrm>
            <a:custGeom>
              <a:avLst/>
              <a:gdLst/>
              <a:ahLst/>
              <a:rect l="l" t="t" r="r" b="b"/>
              <a:pathLst>
                <a:path w="107" h="306">
                  <a:moveTo>
                    <a:pt x="0" y="306"/>
                  </a:moveTo>
                  <a:lnTo>
                    <a:pt x="30" y="252"/>
                  </a:lnTo>
                  <a:lnTo>
                    <a:pt x="53" y="183"/>
                  </a:lnTo>
                  <a:lnTo>
                    <a:pt x="84" y="99"/>
                  </a:lnTo>
                  <a:lnTo>
                    <a:pt x="99" y="54"/>
                  </a:lnTo>
                  <a:lnTo>
                    <a:pt x="10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14720" y="4129200"/>
              <a:ext cx="84240" cy="946080"/>
            </a:xfrm>
            <a:custGeom>
              <a:avLst/>
              <a:gdLst/>
              <a:ahLst/>
              <a:rect l="l" t="t" r="r" b="b"/>
              <a:pathLst>
                <a:path w="53" h="596">
                  <a:moveTo>
                    <a:pt x="0" y="596"/>
                  </a:moveTo>
                  <a:lnTo>
                    <a:pt x="7" y="535"/>
                  </a:lnTo>
                  <a:lnTo>
                    <a:pt x="15" y="466"/>
                  </a:lnTo>
                  <a:lnTo>
                    <a:pt x="30" y="313"/>
                  </a:lnTo>
                  <a:lnTo>
                    <a:pt x="38" y="153"/>
                  </a:lnTo>
                  <a:lnTo>
                    <a:pt x="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8840" y="604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760" y="5572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320" y="5087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320" y="4614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" y="4129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320" y="3656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0120" y="6238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3272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240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172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1040" y="6238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14000" y="6238800"/>
              <a:ext cx="32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9720" y="6494400"/>
              <a:ext cx="93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bt Weigh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-336240" y="492300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 per share,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80" y="3498840"/>
              <a:ext cx="4438440" cy="335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000" y="3489480"/>
            <a:ext cx="4452840" cy="3368520"/>
            <a:chOff x="54000" y="3489480"/>
            <a:chExt cx="4452840" cy="3368520"/>
          </a:xfrm>
        </p:grpSpPr>
        <p:sp>
          <p:nvSpPr>
            <p:cNvPr id="284" name=""/>
            <p:cNvSpPr/>
            <p:nvPr/>
          </p:nvSpPr>
          <p:spPr>
            <a:xfrm>
              <a:off x="54000" y="3489480"/>
              <a:ext cx="4452840" cy="33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3080" y="3727440"/>
              <a:ext cx="3198960" cy="2557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9960" y="62848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39960" y="58546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9960" y="5435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9960" y="50054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9960" y="45766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39960" y="4157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39960" y="37274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3080" y="5005440"/>
              <a:ext cx="319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973080" y="500508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50192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43000" y="628776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571840" y="62895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0212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641760" y="628776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72040" y="500508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973080" y="560340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501920" y="5304960"/>
              <a:ext cx="5410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043000" y="5005080"/>
              <a:ext cx="52884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571840" y="4706640"/>
              <a:ext cx="5302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102120" y="4408200"/>
              <a:ext cx="539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973080" y="508932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501920" y="4790880"/>
              <a:ext cx="54108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43000" y="4492440"/>
              <a:ext cx="5288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571840" y="4194000"/>
              <a:ext cx="530280" cy="29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02120" y="3895200"/>
              <a:ext cx="53964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200" y="620064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1200" y="577044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1200" y="53532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0440" y="492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040" y="4492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4040" y="4073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040" y="36432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39600" y="6400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9600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564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592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620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3584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6120" y="64008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43960" y="66294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-59400" y="494424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1800" y="472428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igh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09680" y="39625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 Deb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447200" y="5105520"/>
              <a:ext cx="75960" cy="5331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54100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itional 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55920" y="5365800"/>
              <a:ext cx="50148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54000" y="3483000"/>
            <a:ext cx="4452840" cy="3287520"/>
            <a:chOff x="54000" y="3483000"/>
            <a:chExt cx="4452840" cy="3287520"/>
          </a:xfrm>
        </p:grpSpPr>
        <p:sp>
          <p:nvSpPr>
            <p:cNvPr id="333" name=""/>
            <p:cNvSpPr/>
            <p:nvPr/>
          </p:nvSpPr>
          <p:spPr>
            <a:xfrm>
              <a:off x="54000" y="3483000"/>
              <a:ext cx="4452840" cy="328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9320" y="3699000"/>
              <a:ext cx="3494160" cy="2317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640" y="60166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640" y="57895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640" y="55530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7640" y="53262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640" y="50896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640" y="4862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7640" y="46260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7640" y="4398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640" y="41623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7640" y="3935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7640" y="36990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9320" y="5553000"/>
              <a:ext cx="3494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7932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62160" y="601992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84464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425680" y="602460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00816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591000" y="6019920"/>
              <a:ext cx="144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173480" y="6019920"/>
              <a:ext cx="1800" cy="3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068560" y="5553000"/>
              <a:ext cx="35712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425680" y="4745160"/>
              <a:ext cx="582480" cy="80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008160" y="3935160"/>
              <a:ext cx="58284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79320" y="5606640"/>
              <a:ext cx="5828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262160" y="5413320"/>
              <a:ext cx="58248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844640" y="5208120"/>
              <a:ext cx="58104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425680" y="5003280"/>
              <a:ext cx="58248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008160" y="4799160"/>
              <a:ext cx="5828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480" y="59403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5280" y="5715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8120" y="5477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8120" y="5251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320" y="5013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3320" y="4788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320" y="454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320" y="4324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3320" y="4086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3320" y="386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3320" y="362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960" y="610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092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4196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2444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0728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8976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72600" y="610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04280" y="639432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-363240" y="476424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arnings per share, 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562120" y="4014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De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87880" y="4944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 De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3:08:28Z</dcterms:created>
  <dc:creator>Frank</dc:creator>
  <dc:description/>
  <dc:language>en-US</dc:language>
  <cp:lastModifiedBy>frank crundwell</cp:lastModifiedBy>
  <dcterms:modified xsi:type="dcterms:W3CDTF">2007-08-16T16:56:43Z</dcterms:modified>
  <cp:revision>7</cp:revision>
  <dc:subject/>
  <dc:title>PowerPoint Presentation</dc:title>
</cp:coreProperties>
</file>